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2AD-71EF-4CCF-8B62-A70EDDC8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2AE-A7AA-4775-B139-CF498BCB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A99-2ED4-45C8-8F6E-71EC3B0B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ED7-97AE-4A5A-922B-342A2663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6E8-2CD6-4007-85C1-FA2F120C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465-FEB4-4CBA-84BB-02C7B2FE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1E5-5CD0-46FD-AFE6-796B8661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B58-11D5-4E54-BCCA-4664EB83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693-1D53-4520-843A-51B7FA27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611-DF82-443A-A15D-D856893B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ADD-6691-4AD2-971A-8ACF6B24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DB5-1065-4677-A8D9-8D0B7695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AE38-8FA3-4F59-AFA6-5852AC53E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"/>
          <p:cNvGrpSpPr/>
          <p:nvPr/>
        </p:nvGrpSpPr>
        <p:grpSpPr>
          <a:xfrm>
            <a:off x="600120" y="484200"/>
            <a:ext cx="8251920" cy="712800"/>
            <a:chOff x="600120" y="484200"/>
            <a:chExt cx="8251920" cy="712800"/>
          </a:xfrm>
        </p:grpSpPr>
        <p:sp>
          <p:nvSpPr>
            <p:cNvPr id="42" name="Text Box 4"/>
            <p:cNvSpPr/>
            <p:nvPr/>
          </p:nvSpPr>
          <p:spPr>
            <a:xfrm>
              <a:off x="1422000" y="612720"/>
              <a:ext cx="7430040" cy="58428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Вспоминаем то, что зна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Рисунок 5" descr="значки - думаю.jpg"/>
            <p:cNvPicPr/>
            <p:nvPr/>
          </p:nvPicPr>
          <p:blipFill>
            <a:blip r:embed="rId1"/>
            <a:stretch/>
          </p:blipFill>
          <p:spPr>
            <a:xfrm>
              <a:off x="600120" y="484200"/>
              <a:ext cx="726840" cy="71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Text Box 4"/>
          <p:cNvSpPr/>
          <p:nvPr/>
        </p:nvSpPr>
        <p:spPr>
          <a:xfrm>
            <a:off x="1389240" y="1550880"/>
            <a:ext cx="7462800" cy="65412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5" descr="значок новая тема.jpg"/>
          <p:cNvPicPr/>
          <p:nvPr/>
        </p:nvPicPr>
        <p:blipFill>
          <a:blip r:embed="rId2"/>
          <a:stretch/>
        </p:blipFill>
        <p:spPr>
          <a:xfrm>
            <a:off x="627120" y="1468440"/>
            <a:ext cx="700200" cy="73656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4"/>
          <p:cNvGrpSpPr/>
          <p:nvPr/>
        </p:nvGrpSpPr>
        <p:grpSpPr>
          <a:xfrm>
            <a:off x="682560" y="2665440"/>
            <a:ext cx="8169480" cy="714240"/>
            <a:chOff x="682560" y="2665440"/>
            <a:chExt cx="8169480" cy="714240"/>
          </a:xfrm>
        </p:grpSpPr>
        <p:sp>
          <p:nvSpPr>
            <p:cNvPr id="47" name="Text Box 4"/>
            <p:cNvSpPr/>
            <p:nvPr/>
          </p:nvSpPr>
          <p:spPr>
            <a:xfrm>
              <a:off x="1435320" y="2685600"/>
              <a:ext cx="7416720" cy="59940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Рисунок 6" descr="значки - идея.jpg"/>
            <p:cNvPicPr/>
            <p:nvPr/>
          </p:nvPicPr>
          <p:blipFill>
            <a:blip r:embed="rId3"/>
            <a:stretch/>
          </p:blipFill>
          <p:spPr>
            <a:xfrm>
              <a:off x="682560" y="2665440"/>
              <a:ext cx="7286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Рисунок 6" descr="значки.jpg"/>
          <p:cNvPicPr/>
          <p:nvPr/>
        </p:nvPicPr>
        <p:blipFill>
          <a:blip r:embed="rId4"/>
          <a:stretch/>
        </p:blipFill>
        <p:spPr>
          <a:xfrm>
            <a:off x="620640" y="4708440"/>
            <a:ext cx="725400" cy="7858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349280" y="4780080"/>
            <a:ext cx="7502760" cy="6429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значки - сравниваем с автором.jpg"/>
          <p:cNvPicPr/>
          <p:nvPr/>
        </p:nvPicPr>
        <p:blipFill>
          <a:blip r:embed="rId5"/>
          <a:stretch/>
        </p:blipFill>
        <p:spPr>
          <a:xfrm>
            <a:off x="534960" y="37656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389240" y="3860640"/>
            <a:ext cx="7462800" cy="57636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6"/>
          <p:cNvSpPr/>
          <p:nvPr/>
        </p:nvSpPr>
        <p:spPr>
          <a:xfrm>
            <a:off x="338040" y="1628640"/>
            <a:ext cx="8217000" cy="3529080"/>
          </a:xfrm>
          <a:prstGeom prst="roundRect">
            <a:avLst>
              <a:gd name="adj" fmla="val 16667"/>
            </a:avLst>
          </a:prstGeom>
          <a:solidFill>
            <a:srgbClr val="ffda8f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468360" y="236232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егодня я искал, творил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нание новое открыл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Научился применя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Задания теперь легко мне вы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9"/>
          <p:cNvSpPr/>
          <p:nvPr/>
        </p:nvSpPr>
        <p:spPr>
          <a:xfrm>
            <a:off x="324000" y="3714840"/>
            <a:ext cx="839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это за признак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всех ли слов он е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определить род имён существи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85920" y="428760"/>
            <a:ext cx="742932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5" descr="значок новая тема.jpg"/>
          <p:cNvPicPr/>
          <p:nvPr/>
        </p:nvPicPr>
        <p:blipFill>
          <a:blip r:embed="rId1"/>
          <a:stretch/>
        </p:blipFill>
        <p:spPr>
          <a:xfrm>
            <a:off x="714240" y="357120"/>
            <a:ext cx="588960" cy="6192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603360" y="1279440"/>
            <a:ext cx="8150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6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Box 6"/>
          <p:cNvSpPr/>
          <p:nvPr/>
        </p:nvSpPr>
        <p:spPr>
          <a:xfrm>
            <a:off x="428760" y="1230480"/>
            <a:ext cx="8215200" cy="76428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читайте имена существительные. Какие из них называют мужчин, а какие женщин? Вы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28760" y="214308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, мама, сестра, папа, бабушка, сын, брат, внучка, дядя, тётя, прадедушка, прабабушка, мужчина, 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5143680" y="1000080"/>
            <a:ext cx="2857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857160" y="88272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дя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дед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ужч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000760" y="882720"/>
            <a:ext cx="20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м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сес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вн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те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прабаб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Arial"/>
              </a:rPr>
              <a:t>жен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6"/>
          <p:cNvSpPr/>
          <p:nvPr/>
        </p:nvSpPr>
        <p:spPr>
          <a:xfrm>
            <a:off x="357120" y="3643200"/>
            <a:ext cx="8001000" cy="1000080"/>
          </a:xfrm>
          <a:prstGeom prst="roundRect">
            <a:avLst>
              <a:gd name="adj" fmla="val 19972"/>
            </a:avLst>
          </a:prstGeom>
          <a:solidFill>
            <a:srgbClr val="ffe6b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ушевлённые имена существительные бывают мужского и женского 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cs317520.userapi.com/v317520447/b84/kOL1escfTKw.jpg"/>
          <p:cNvPicPr/>
          <p:nvPr/>
        </p:nvPicPr>
        <p:blipFill>
          <a:blip r:embed="rId2"/>
          <a:stretch/>
        </p:blipFill>
        <p:spPr>
          <a:xfrm>
            <a:off x="3348000" y="3860640"/>
            <a:ext cx="23605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0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TextBox 10"/>
          <p:cNvSpPr/>
          <p:nvPr/>
        </p:nvSpPr>
        <p:spPr>
          <a:xfrm>
            <a:off x="214200" y="1285920"/>
            <a:ext cx="8715600" cy="176976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. Это одушевлённые или неодушевлённые имена существительны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с помощью слов-подсказо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н, он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кие из них мужского рода, а какие женского. Запишите слова в два столб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357120" y="3338640"/>
            <a:ext cx="828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  <a:ea typeface="Arial"/>
              </a:rPr>
              <a:t>Колокольчик, польза, рассвет, окно, алфавит, язык, облако, суббота, поле, коллекция, живо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185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6b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коль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ь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фав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во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grpSp>
        <p:nvGrpSpPr>
          <p:cNvPr id="76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77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7"/>
          <p:cNvSpPr/>
          <p:nvPr/>
        </p:nvSpPr>
        <p:spPr>
          <a:xfrm>
            <a:off x="2673360" y="836640"/>
            <a:ext cx="511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нский род запомню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кажу: «Она - мо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 запомню род муж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опять скажу: «Он -  м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ний род – оно, м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правило –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. Семё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оно мое - 0002.jpg"/>
          <p:cNvPicPr/>
          <p:nvPr/>
        </p:nvPicPr>
        <p:blipFill>
          <a:blip r:embed="rId1"/>
          <a:stretch/>
        </p:blipFill>
        <p:spPr>
          <a:xfrm>
            <a:off x="7407360" y="4438800"/>
            <a:ext cx="1438200" cy="1858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он мой.jpg"/>
          <p:cNvPicPr/>
          <p:nvPr/>
        </p:nvPicPr>
        <p:blipFill>
          <a:blip r:embed="rId2"/>
          <a:stretch/>
        </p:blipFill>
        <p:spPr>
          <a:xfrm>
            <a:off x="109440" y="1414440"/>
            <a:ext cx="23655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2"/>
          <p:cNvSpPr/>
          <p:nvPr/>
        </p:nvSpPr>
        <p:spPr>
          <a:xfrm>
            <a:off x="557280" y="2060640"/>
            <a:ext cx="7983360" cy="1268280"/>
          </a:xfrm>
          <a:prstGeom prst="roundRect">
            <a:avLst>
              <a:gd name="adj" fmla="val 16667"/>
            </a:avLst>
          </a:pr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28800" y="428760"/>
            <a:ext cx="778644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7" descr="значки - сравниваем с автором.jpg"/>
          <p:cNvPicPr/>
          <p:nvPr/>
        </p:nvPicPr>
        <p:blipFill>
          <a:blip r:embed="rId1"/>
          <a:stretch/>
        </p:blipFill>
        <p:spPr>
          <a:xfrm>
            <a:off x="142920" y="2142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606600" y="2284560"/>
            <a:ext cx="771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на существительные бывают или мужского, или женского, или среднего рода.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правляющая кнопка: домой 1">
            <a:hlinkClick r:id="rId2" action="ppaction://hlinksldjump"/>
          </p:cNvPr>
          <p:cNvSpPr/>
          <p:nvPr/>
        </p:nvSpPr>
        <p:spPr>
          <a:xfrm>
            <a:off x="7596360" y="5300640"/>
            <a:ext cx="725400" cy="72072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740" h="21600">
                <a:moveTo>
                  <a:pt x="0" y="0"/>
                </a:moveTo>
                <a:lnTo>
                  <a:pt x="21740" y="0"/>
                </a:lnTo>
                <a:lnTo>
                  <a:pt x="21740" y="21600"/>
                </a:lnTo>
                <a:lnTo>
                  <a:pt x="0" y="21600"/>
                </a:lnTo>
                <a:close/>
              </a:path>
              <a:path fill="lightenLess" w="21740" h="21600">
                <a:moveTo>
                  <a:pt x="0" y="0"/>
                </a:moveTo>
                <a:lnTo>
                  <a:pt x="21740" y="0"/>
                </a:lnTo>
                <a:lnTo>
                  <a:pt x="20340" y="1400"/>
                </a:lnTo>
                <a:lnTo>
                  <a:pt x="1400" y="1400"/>
                </a:lnTo>
                <a:close/>
              </a:path>
              <a:path fill="darken" w="21740" h="21600">
                <a:moveTo>
                  <a:pt x="21740" y="0"/>
                </a:moveTo>
                <a:lnTo>
                  <a:pt x="21740" y="21600"/>
                </a:lnTo>
                <a:lnTo>
                  <a:pt x="20340" y="20200"/>
                </a:lnTo>
                <a:lnTo>
                  <a:pt x="20340" y="1400"/>
                </a:lnTo>
                <a:close/>
              </a:path>
              <a:path fill="darkenLess" w="21740" h="21600">
                <a:moveTo>
                  <a:pt x="21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0" y="20200"/>
                </a:lnTo>
                <a:close/>
              </a:path>
              <a:path fill="lighten" w="21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0" h="21600">
                <a:moveTo>
                  <a:pt x="10870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lnTo>
                  <a:pt x="17833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1" y="17989"/>
                </a:lnTo>
                <a:lnTo>
                  <a:pt x="5561" y="10800"/>
                </a:lnTo>
                <a:lnTo>
                  <a:pt x="3907" y="10800"/>
                </a:lnTo>
                <a:close/>
              </a:path>
              <a:path fill="darkenLess" w="21740" h="21600">
                <a:moveTo>
                  <a:pt x="13446" y="6448"/>
                </a:moveTo>
                <a:lnTo>
                  <a:pt x="13446" y="4707"/>
                </a:lnTo>
                <a:lnTo>
                  <a:pt x="15222" y="4707"/>
                </a:lnTo>
                <a:lnTo>
                  <a:pt x="15222" y="8224"/>
                </a:lnTo>
                <a:close/>
              </a:path>
              <a:path fill="darkenLess" w="21740" h="21600">
                <a:moveTo>
                  <a:pt x="9948" y="14299"/>
                </a:moveTo>
                <a:lnTo>
                  <a:pt x="11793" y="14299"/>
                </a:lnTo>
                <a:lnTo>
                  <a:pt x="11793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1" y="10800"/>
                </a:lnTo>
                <a:lnTo>
                  <a:pt x="5561" y="17989"/>
                </a:lnTo>
                <a:lnTo>
                  <a:pt x="9948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785880" y="428760"/>
            <a:ext cx="8358120" cy="50004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именяем новые знания. Развиваем ум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значки.jpg"/>
          <p:cNvPicPr/>
          <p:nvPr/>
        </p:nvPicPr>
        <p:blipFill>
          <a:blip r:embed="rId1"/>
          <a:stretch/>
        </p:blipFill>
        <p:spPr>
          <a:xfrm>
            <a:off x="82440" y="285840"/>
            <a:ext cx="725760" cy="785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1"/>
          <p:cNvSpPr/>
          <p:nvPr/>
        </p:nvSpPr>
        <p:spPr>
          <a:xfrm>
            <a:off x="285840" y="1357200"/>
            <a:ext cx="3929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смотрите на картинку и запишите по два  имени существитель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мужског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женского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реднего р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Какие из них одушевлённые, а какие – неодушевлённы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http://cs304405.userapi.com/u406112/-14/x_43f625f1.jpg"/>
          <p:cNvPicPr/>
          <p:nvPr/>
        </p:nvPicPr>
        <p:blipFill>
          <a:blip r:embed="rId2"/>
          <a:stretch/>
        </p:blipFill>
        <p:spPr>
          <a:xfrm>
            <a:off x="6338880" y="1071720"/>
            <a:ext cx="2590920" cy="23079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91" name="Picture 2" descr="http://i013.radikal.ru/1109/fd/4e96c18fed68.png"/>
          <p:cNvPicPr/>
          <p:nvPr/>
        </p:nvPicPr>
        <p:blipFill>
          <a:blip r:embed="rId3"/>
          <a:stretch/>
        </p:blipFill>
        <p:spPr>
          <a:xfrm>
            <a:off x="4143240" y="3000240"/>
            <a:ext cx="3938760" cy="36226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домой 6">
            <a:hlinkClick r:id="rId4" action="ppaction://hlinksldjump"/>
          </p:cNvPr>
          <p:cNvSpPr/>
          <p:nvPr/>
        </p:nvSpPr>
        <p:spPr>
          <a:xfrm>
            <a:off x="8248680" y="5805360"/>
            <a:ext cx="725400" cy="719280"/>
          </a:xfrm>
          <a:custGeom>
            <a:avLst/>
            <a:gdLst>
              <a:gd name="textAreaLeft" fmla="*/ 46440 w 725400"/>
              <a:gd name="textAreaRight" fmla="*/ 678960 w 7254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784" h="21600">
                <a:moveTo>
                  <a:pt x="0" y="0"/>
                </a:moveTo>
                <a:lnTo>
                  <a:pt x="21784" y="0"/>
                </a:lnTo>
                <a:lnTo>
                  <a:pt x="21784" y="21600"/>
                </a:lnTo>
                <a:lnTo>
                  <a:pt x="0" y="21600"/>
                </a:lnTo>
                <a:close/>
              </a:path>
              <a:path fill="lightenLess" w="21784" h="21600">
                <a:moveTo>
                  <a:pt x="0" y="0"/>
                </a:moveTo>
                <a:lnTo>
                  <a:pt x="21784" y="0"/>
                </a:lnTo>
                <a:lnTo>
                  <a:pt x="20384" y="1400"/>
                </a:lnTo>
                <a:lnTo>
                  <a:pt x="1400" y="1400"/>
                </a:lnTo>
                <a:close/>
              </a:path>
              <a:path fill="darken" w="21784" h="21600">
                <a:moveTo>
                  <a:pt x="21784" y="0"/>
                </a:moveTo>
                <a:lnTo>
                  <a:pt x="21784" y="21600"/>
                </a:lnTo>
                <a:lnTo>
                  <a:pt x="20384" y="20200"/>
                </a:lnTo>
                <a:lnTo>
                  <a:pt x="20384" y="1400"/>
                </a:lnTo>
                <a:close/>
              </a:path>
              <a:path fill="darkenLess" w="21784" h="21600">
                <a:moveTo>
                  <a:pt x="21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84" y="20200"/>
                </a:lnTo>
                <a:close/>
              </a:path>
              <a:path fill="lighten" w="21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84" h="21600">
                <a:moveTo>
                  <a:pt x="10892" y="3837"/>
                </a:moveTo>
                <a:lnTo>
                  <a:pt x="13468" y="6448"/>
                </a:ln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lnTo>
                  <a:pt x="17855" y="10800"/>
                </a:lnTo>
                <a:lnTo>
                  <a:pt x="16201" y="10800"/>
                </a:lnTo>
                <a:lnTo>
                  <a:pt x="16201" y="17989"/>
                </a:lnTo>
                <a:lnTo>
                  <a:pt x="5583" y="17989"/>
                </a:lnTo>
                <a:lnTo>
                  <a:pt x="5583" y="10800"/>
                </a:lnTo>
                <a:lnTo>
                  <a:pt x="3929" y="10800"/>
                </a:lnTo>
                <a:close/>
              </a:path>
              <a:path fill="darkenLess" w="21784" h="21600">
                <a:moveTo>
                  <a:pt x="13468" y="6448"/>
                </a:moveTo>
                <a:lnTo>
                  <a:pt x="13468" y="4707"/>
                </a:lnTo>
                <a:lnTo>
                  <a:pt x="15244" y="4707"/>
                </a:lnTo>
                <a:lnTo>
                  <a:pt x="15244" y="8224"/>
                </a:lnTo>
                <a:close/>
              </a:path>
              <a:path fill="darkenLess" w="21784" h="21600">
                <a:moveTo>
                  <a:pt x="9969" y="14299"/>
                </a:moveTo>
                <a:lnTo>
                  <a:pt x="11814" y="14299"/>
                </a:lnTo>
                <a:lnTo>
                  <a:pt x="11814" y="17989"/>
                </a:lnTo>
                <a:lnTo>
                  <a:pt x="16201" y="17989"/>
                </a:lnTo>
                <a:lnTo>
                  <a:pt x="16201" y="10800"/>
                </a:lnTo>
                <a:lnTo>
                  <a:pt x="5583" y="10800"/>
                </a:lnTo>
                <a:lnTo>
                  <a:pt x="5583" y="17989"/>
                </a:lnTo>
                <a:lnTo>
                  <a:pt x="9969" y="17989"/>
                </a:lnTo>
                <a:close/>
              </a:path>
            </a:pathLst>
          </a:custGeom>
          <a:solidFill>
            <a:srgbClr val="ffe6b3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7:12:39Z</dcterms:created>
  <dc:creator>Admin</dc:creator>
  <dc:description/>
  <dc:language>en-US</dc:language>
  <cp:lastModifiedBy>User</cp:lastModifiedBy>
  <dcterms:modified xsi:type="dcterms:W3CDTF">2014-05-25T17:51:29Z</dcterms:modified>
  <cp:revision>325</cp:revision>
  <dc:subject/>
  <dc:title>Слайд 1</dc:title>
</cp:coreProperties>
</file>